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7A8-53F4-4917-8C5E-33ACEF1C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669-2C54-4CA0-A939-8E6B552A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79F-B8FA-4355-B019-3E57BCF8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4CA4-297C-4955-97F2-D2413607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35B9-F297-4818-90A1-5D4FDEC7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9603-0297-4C78-BEA8-F3D9894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6445-787A-46F3-9307-4F73CAA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7C79-2074-4A31-9330-D58D31B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8770-F40A-4A66-834A-CB8B66B8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99E2-33D2-4C9A-AE63-B767453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794-958C-4A04-BA6E-E7A341C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BCD-B71E-4155-BF1B-12D7006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1225-E584-4B7B-A718-D7F24D0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2FC-BF64-4266-AD40-1C7E84C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5555-01B6-4461-9753-9571659B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39B-C6C9-4993-BBD3-A69AF8DF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ABD3-C3B8-4392-8575-3C5B25F4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AF0EE-CA49-4C63-91A1-D9DEF539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E3925-424F-4B4C-8887-9B1901B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F0E1C-1C86-4CDB-B72F-4C949D67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F9AF4-F24F-4E62-9BBD-D9328784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69C6B-2B81-411E-87B3-69345AD1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670-6C40-4E8F-AC28-518FDD2A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D67D-F922-4244-94FE-1438CBEF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3E84E-64B0-477E-B8AD-63564FBB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44F80-2F16-4445-B89A-57226DA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58F7C-ECFA-4B05-816E-0C7F5090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48068-8ED1-4031-9947-BA89DE28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A1598-1914-4E94-939E-86B69F5A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5A09A-2542-40D5-B486-199811B8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564AD-23A0-417B-9F04-7A80CC45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12CD-DCFC-4B99-8A25-B4D2FCE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F5AE-E503-45F4-9B32-F38229D9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FAC-4110-4FBF-A83D-EC1EDCDF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9EE3-C01C-47F4-BB52-424C788D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517D-7D45-4D0F-B7FC-EFADAFB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2FA8-994D-4F9D-8956-DDC89843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AFD83-D64F-44BF-B947-58C87CB8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91D0-42F6-444A-9DA1-B5B93BC5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B163-514D-4B1A-AF98-F56ECE3D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F873-6996-454F-8220-8BCE363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7226-A2D4-405B-973D-0CEE4F0D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54FC-2630-4CD2-8ED4-B3F7AFF3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885-459E-4C22-A4B5-35F91D5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40F-55A7-4C00-8C83-34BF6783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7253-8353-4B09-9664-2978A320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8A3-52FC-44ED-9E7D-74A3F24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788-961C-4DC2-B4B0-307AA5C2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ED13-412B-48FA-92CB-4DD48E8F20B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A8C-5C68-48A3-BC56-2CDD7D28B9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738B-95B1-417A-A19D-4B7BB2CFBC0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6BA9-CFBE-448F-B60B-97812EC1D3F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162864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Организация инструментального хозяйства 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ниверсальный инструмент -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инструмент, применяемый на всех предприятиях данной отрасли (подотрасли) производства при выполнении применяемый на данном предприятии для выполнения определенной операции при изготовлении конкретных деталей продукци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Инструмент классифицируют на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рабатывающий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трольно-измерительный,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технологическую оснастк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сновная часть запасов инструмента находится в центральном инструментальном складе.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rebuchet MS"/>
              </a:rPr>
              <a:t>«Точка заказа» 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Это величина переходящего запаса, достаточная для обеспечения производства инструментом на время нормального его изготовления или приобретения на стороне, плюс минимальный запас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Величина же всего складского запаса (в стоимостной форме) будет равна сумме средних запасов по каждому наименованию инструмента и минимального запас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овокупность общезаводских и цеховых подразделений предприятия (отделов, групп, цехов, участков), занятых определением потребности, приобретением, проектированием, изготовлением, ремонтом и восстановлением инструмента и оснастки, ее учетом, хранением, выдачей в цехи и на рабочие места, техническим надзор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 предприятия состоит из следующих подразделений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421000"/>
            <a:ext cx="83628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струментальный отдел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струментальный цех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нтральный инструментальный склад (ЦИС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ховые инструментально-раздаточные кладовые (ИРК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аза восстановления инструмент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монтные отделени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очные отделения в цех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11280" y="765000"/>
            <a:ext cx="807552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альный отдел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нимается определением потребности в инструменте, устанавливает нормы его износа, расхода и запаса, составляет график производства инструмента, организует его ремонт, осуществляет технический надзор за его эксплуатацией и руководит всеми инструментальными служба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инструментальный це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осуществляет изготовление (при необходимости ремонт и восстановление)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11280" y="765000"/>
            <a:ext cx="807552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нтральный инструментальный склад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ЦИС) - осуществляет прием, хранение, подготовку и выдачу инструмента в инструментально-раздаточные кладовы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ховые инструментально-раздаточные кладовые (ИРК)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получают инструмент из ЦИСа, осуществляют его хранение, выдачу на рабочие места, в заточку и ремонт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база восстановления инструмента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нимается сортировкой и восстановлением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Формы организации инструментального хозяйства на предприятии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70828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централизованная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ецентрализованная;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смешанная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214200" y="1090440"/>
            <a:ext cx="85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Times New Roman"/>
              </a:rPr>
              <a:t>Инструментальное хозяйство должно решать ряд задач, основными из которых являются: обоснование потребности в различных видах инструмента; определение степени удовлетворения потребности в инструментах и обоснование необходимости проектирования нового инструмента; проектирование специального инструмента; выбор форм обеспечения инструментом (получение со стороны, собственное производство); организация материально-технического снабжения инструментом; организация хранения инструмента; выбор форм инструменто-обеспечения рабочих мест; организация производства инструмента, его ремонта и заточки; определение возможности восстановления и модернизации инструмен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нструментальное хозяйство в ПХК включает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изводственные звенья по изготовлению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кладские и комплектующие подраздел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разделения по восстановлению и ремонту инструментов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разделения по инструментообеспечению рабочих мес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642960" y="668880"/>
            <a:ext cx="807228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централизов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создается инструментальный отдел предприятия, который руководит всеми инструментальными службами предприятия. В его состав входит инструментальный цех, изготавливающий инструмент для всех подразделений предприятия. 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децентрализов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каждый цех предприятия самостоятельно обеспечивает свое производство необходимым инструментом. 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смешанной фор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организации происходит перераспределение работ между подразделениями инструментального хозяйства; изготовление инструмента осуществляет инструментальный цех, его хранение и распределение - ЦИС, а ремонт и восстановление - цехи основного и вспомогательного производств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85840" y="1336680"/>
          <a:ext cx="8286840" cy="4735440"/>
        </p:xfrm>
        <a:graphic>
          <a:graphicData uri="http://schemas.openxmlformats.org/drawingml/2006/table">
            <a:tbl>
              <a:tblPr/>
              <a:tblGrid>
                <a:gridCol w="1912680"/>
                <a:gridCol w="2378160"/>
                <a:gridCol w="1751040"/>
                <a:gridCol w="2244960"/>
              </a:tblGrid>
              <a:tr h="12366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щее количество работающих в инструментальном хозяйстве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уковод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дчин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 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руппа инструментального хозяйства (ГИХ) или отдельные исполн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нженер по инструмен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 катег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у технологического отдела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ыше 100 до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юро инструментального хозяйства (Б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 бю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лавному технологу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выше 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нструментальный отдел (И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чальник от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9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аместителю главного инженера по подготовке производства - главному технолог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Rectangle 1"/>
          <p:cNvSpPr/>
          <p:nvPr/>
        </p:nvSpPr>
        <p:spPr>
          <a:xfrm>
            <a:off x="1999080" y="-31320"/>
            <a:ext cx="514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рганы управления инструментальным хозяйством предприят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90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ectangle 2"/>
          <p:cNvSpPr/>
          <p:nvPr/>
        </p:nvSpPr>
        <p:spPr>
          <a:xfrm flipV="1" rot="10800000">
            <a:off x="0" y="615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рганы управления инструментальным хозяйством предприяти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Задачи и объем работ по организации инструментального хозяйств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421000"/>
            <a:ext cx="822960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пределяются особенностями основного производства - сложностью выпускаемой продукции, используемым оборудованием, масштабами изготовления однотипной продукции и степенью ее новизны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сновные задачи И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основание потребности в различных видах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степени удовлетворения потребности в инструментах и обоснование необходимости проектирования нового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ектирование специального инструмента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ор форм обеспечения инструмент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413000"/>
            <a:ext cx="82296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материально-технического снабжения инструментом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рганизация хранения инструмент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бор форм инструменто-обеспечения рабочих мест; организация производства инструмента, его ремонта и заточки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возможности восстановления и модернизации инструмен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4456"/>
                </a:solidFill>
                <a:latin typeface="Trebuchet MS"/>
              </a:rPr>
              <a:t>Важнейшая задача инструментального хозяйства: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6370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бесперебойное обеспечение производства необходимыми инструментами и создание их комплектных запасо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9:07:01Z</dcterms:created>
  <dc:creator>Анастасия</dc:creator>
  <dc:description/>
  <dc:language>en-US</dc:language>
  <cp:lastModifiedBy>Компьютер</cp:lastModifiedBy>
  <dcterms:modified xsi:type="dcterms:W3CDTF">2012-05-28T16:10:47Z</dcterms:modified>
  <cp:revision>5</cp:revision>
  <dc:subject/>
  <dc:title>Организация инструментального хозяйства</dc:title>
</cp:coreProperties>
</file>